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770-0C3D-451B-9249-8DF0AB60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516-7132-422D-BDCA-EDC6FD50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AD9-C31F-4CF9-9663-63889B38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8C5-BB90-47EF-863F-56BD684E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C2-B78B-4ED5-AAD7-E415CF95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B98-4A23-49E5-B4F5-54031019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A96-8A0D-4445-835B-188382F7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BF2-DE34-4C53-BFEC-A1411629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EEB-D4BC-42C0-B829-95CE7441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8F2-1719-45DE-9DEE-F279100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770-B7BB-4E43-A407-485AA46D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CD5-9340-4DE4-8675-64857F90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C14-3EB4-4507-916B-0CCECDD0A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959200">
            <a:off x="2987640" y="1267920"/>
            <a:ext cx="1366920" cy="12351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4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4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20403600">
            <a:off x="3058920" y="2565360"/>
            <a:ext cx="2016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78" name=""/>
          <p:cNvSpPr/>
          <p:nvPr/>
        </p:nvSpPr>
        <p:spPr>
          <a:xfrm>
            <a:off x="280836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0" y="5734080"/>
            <a:ext cx="18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20959200">
            <a:off x="5286240" y="2355480"/>
            <a:ext cx="1366920" cy="12351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83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84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692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n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 rot="20403600">
            <a:off x="2916000" y="2205000"/>
            <a:ext cx="2016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75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122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123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692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n front of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20403600">
            <a:off x="2916000" y="2205000"/>
            <a:ext cx="2016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0959200">
            <a:off x="4932000" y="4005000"/>
            <a:ext cx="1366920" cy="123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162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under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 rot="20403600">
            <a:off x="2771280" y="1989000"/>
            <a:ext cx="2016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 rot="205200">
            <a:off x="4716360" y="562284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behind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 rot="20403600">
            <a:off x="2771280" y="1989000"/>
            <a:ext cx="2016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20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353200">
            <a:off x="3492000" y="2997000"/>
            <a:ext cx="13669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215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216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75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next to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20403600">
            <a:off x="2771640" y="1916280"/>
            <a:ext cx="2016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252" name=""/>
          <p:cNvSpPr/>
          <p:nvPr/>
        </p:nvSpPr>
        <p:spPr>
          <a:xfrm>
            <a:off x="2484360" y="76500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25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25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777080" y="321300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750"/>
                            </p:stCondLst>
                            <p:childTnLst>
                              <p:par>
                                <p:cTn id="3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on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 rot="20403600">
            <a:off x="2771640" y="1773360"/>
            <a:ext cx="2016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620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29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29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75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bove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 rot="20403600">
            <a:off x="2771640" y="1916280"/>
            <a:ext cx="2016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332" name=""/>
          <p:cNvSpPr/>
          <p:nvPr/>
        </p:nvSpPr>
        <p:spPr>
          <a:xfrm>
            <a:off x="2411280" y="62064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33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33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 rot="630000">
            <a:off x="7776720" y="26028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500"/>
                            </p:stCondLst>
                            <p:childTnLst>
                              <p:par>
                                <p:cTn id="5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6000" y="333360"/>
            <a:ext cx="62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between 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the wheels of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 rot="20403600">
            <a:off x="2843280" y="2276640"/>
            <a:ext cx="20160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372" name=""/>
          <p:cNvSpPr/>
          <p:nvPr/>
        </p:nvSpPr>
        <p:spPr>
          <a:xfrm>
            <a:off x="248436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37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37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80000" y="4581360"/>
            <a:ext cx="1297080" cy="360360"/>
          </a:xfrm>
          <a:prstGeom prst="uturnArrow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067280" y="4581360"/>
            <a:ext cx="1295280" cy="360360"/>
          </a:xfrm>
          <a:prstGeom prst="uturnArrow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 rot="630000">
            <a:off x="4858920" y="494172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8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975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0:46:08Z</dcterms:created>
  <dc:creator>nocas</dc:creator>
  <dc:description/>
  <dc:language>en-US</dc:language>
  <cp:lastModifiedBy>nocas</cp:lastModifiedBy>
  <dcterms:modified xsi:type="dcterms:W3CDTF">2009-07-26T11:46:38Z</dcterms:modified>
  <cp:revision>4</cp:revision>
  <dc:subject/>
  <dc:title>Diapositivo 1</dc:title>
</cp:coreProperties>
</file>